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5239-2EDE-4E26-AA84-C5C380A20BB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4BF-0122-4EAF-B625-A1DC5015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CFB-B9A0-4302-9D12-0A1AAA04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4E3-7508-4E27-9D65-DF20B14B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A32-15E8-4E71-B2C6-C0234D3B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EE0-F4E2-45F2-B08B-D0C0586A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C4D-42AA-40CE-BEB9-B6F5C30D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AB8-699A-426B-8ADA-493F6382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C96-2E99-4C6F-8B80-B27C5A6E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81D-B018-41EC-A647-D3E25B54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D29-BD33-465D-A32E-0A5CDE81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B05-1D86-450A-9E35-B8FF5975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444-F0AB-4676-A871-8E62D4F1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D533-F582-4EC2-8ED4-6AC5CBEAC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30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38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45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3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85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LEGION</cp:lastModifiedBy>
  <dcterms:modified xsi:type="dcterms:W3CDTF">2017-07-03T11:26:41Z</dcterms:modified>
  <cp:revision>46</cp:revision>
  <dc:subject/>
  <dc:title>Middle Ages of Europe</dc:title>
</cp:coreProperties>
</file>